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79A-1F71-45AD-AA95-46BA7803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E8A-0AF3-483C-863F-766E4A98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BA1-E508-4DCB-AF59-38D42FAA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E1A-F21B-48E5-AA16-F74A138B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57E-69C2-4C45-A238-E7CD6643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A9E-3B90-4BDF-9FD0-B972D738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153-D8C8-4DA3-99D7-CA45B36E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639-DB56-44E5-A086-18575BC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4C4-48BE-484F-8879-CC035D68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4EB-5E5A-459A-98C3-4A68E36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57D-4116-4A24-8143-7358775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171-65A4-402B-BB2C-A83DD35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DC77-4C03-4B90-8A66-49B0BEC2B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       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0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erminamos la practica para la Prueba 1: Capitulo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1639800" cy="167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76520" y="3708360"/>
            <a:ext cx="1828800" cy="124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2895480"/>
            <a:ext cx="1828800" cy="11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1298520" cy="130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620120" y="2819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809880" y="4952880"/>
            <a:ext cx="1160640" cy="14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715000" y="4800600"/>
            <a:ext cx="31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- Copia y completa las o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gente revisa __________ y el bol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pongo el equipaje en la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no puede entrar en el _________ sin una tarjeta de 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_______ AA 203 sale para Madrid a las 5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un pasapor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raes muchos libros a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vienes a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Haces tu tarea en la escuela o en la ca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Sales con tu familia en el fin de sem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V- Conjuga los verb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988920"/>
          <a:ext cx="8839440" cy="5077080"/>
        </p:xfrm>
        <a:graphic>
          <a:graphicData uri="http://schemas.openxmlformats.org/drawingml/2006/table">
            <a:tbl>
              <a:tblPr/>
              <a:tblGrid>
                <a:gridCol w="1981440"/>
                <a:gridCol w="1371600"/>
                <a:gridCol w="1371600"/>
                <a:gridCol w="1371600"/>
                <a:gridCol w="1371600"/>
                <a:gridCol w="137160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-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-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- 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 la tarea a tiempo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tonio ______ a la fiesta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la maleta de mi hija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i examen en el escritorio del profesor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sajeros ____________ en el vuelo D502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los materiales a clase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________ de Puerto Rico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_ muchos proyectos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 _________ la ropa en la maleta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rique _________ de casa a las 8am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 During pd. 3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r, traer, salir, poner y venir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3:03:41Z</dcterms:created>
  <dc:creator>Helen Zumaeta</dc:creator>
  <dc:description/>
  <dc:language>en-US</dc:language>
  <cp:lastModifiedBy>Helen Zumaeta</cp:lastModifiedBy>
  <dcterms:modified xsi:type="dcterms:W3CDTF">2011-10-20T03:37:49Z</dcterms:modified>
  <cp:revision>1</cp:revision>
  <dc:subject/>
  <dc:title>Me llamo _________         Clase 7 IM La fecha es el 20 de octubre del 2011</dc:title>
</cp:coreProperties>
</file>